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A3A-B776-438E-A8E3-96E8C21E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572-E331-4D89-B3EF-F4D9F51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662-09ED-4947-9C7B-BB4362E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4F2-757A-4208-BA8E-183CD37F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CFD-811F-425A-AAEB-5580AC09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D46-B2B2-4571-984C-5D1B065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CA6-6C3A-437C-BDF4-B64CDF1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9F3-9A12-4104-9FAC-8FA31C4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983-71BE-473C-8E66-8178BAE0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B9D-252F-43FC-94BC-3AB0CDD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5D2-FD5D-427F-A918-CF471DA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574-6D77-4093-987C-8CFD708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A32-EA78-4841-8E83-92CC87C2E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 SIMPLE WALRASIAN MODEL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OB DAV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PS Introduction to CGE Modell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etoria, March 200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NSLATING FOR GAMS: EXAMPL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54097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A(A)=E= ad(A)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F,QF(F,A)**alpha(F,A))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1295280"/>
          <a:ext cx="243864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24386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80880" y="2133720"/>
          <a:ext cx="243864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33720"/>
                    <a:ext cx="24386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80880" y="3048120"/>
          <a:ext cx="54864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048120"/>
                    <a:ext cx="54864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9280" y="3936960"/>
          <a:ext cx="6332400" cy="12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280" y="3936960"/>
                    <a:ext cx="63324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ERCISE MODEL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icated because preparing for further develop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s for separation of activ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GR-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AGR-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commod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GR-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AGR-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s for more than 2 x 2 x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eraire = Consumer Price Inde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licates because adding equation but not an endogenous variab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ERCISE QUESTIO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impact of increasing the total capital stock by 10%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plain the economics behind the resul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ERCISE TASK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 notes to Exercise 1 in the print o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read them, look through the whole of ‘CGE1 Task’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ithout changing anyth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the Gams for Beginners notes pus the Help function to try to understand what the coding do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notes of areas of confusion/ uncertain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ERCISE TASK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will go through it together to discuss the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make the coding corrections needed to make it ru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k at the results and explain the economics behind them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SSUMPTION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 Commodities, X and Z (prices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 Factors, K and L (prices R and W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 Households, A and B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government, no trade, no intermediate inputs, no savings, no invest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ll employment, perfect competi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OCIAL ACCOUNTING MATRIX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00200"/>
          <a:ext cx="7705800" cy="4691160"/>
        </p:xfrm>
        <a:graphic>
          <a:graphicData uri="http://schemas.openxmlformats.org/drawingml/2006/table">
            <a:tbl>
              <a:tblPr/>
              <a:tblGrid>
                <a:gridCol w="706680"/>
                <a:gridCol w="790560"/>
                <a:gridCol w="780840"/>
                <a:gridCol w="762120"/>
                <a:gridCol w="808200"/>
                <a:gridCol w="903240"/>
                <a:gridCol w="717480"/>
                <a:gridCol w="812880"/>
                <a:gridCol w="142380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X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X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Z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Z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BB-DOUGLAS PRODUCTION FUNCTIO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3640" y="1978200"/>
          <a:ext cx="355608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78200"/>
                    <a:ext cx="35560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992840" y="3075120"/>
          <a:ext cx="360180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2840" y="3075120"/>
                    <a:ext cx="360180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551640" y="4191120"/>
          <a:ext cx="1862280" cy="96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1640" y="4191120"/>
                    <a:ext cx="1862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813720" y="5105520"/>
          <a:ext cx="1711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13720" y="5105520"/>
                    <a:ext cx="1711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5410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re of labour costs in total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45284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mand for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195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ginal Product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 to the Word document “A simple Walrasian model.doc” for the equations specifying the mod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ODEL SUMMARY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 Variab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 equ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4 variables exogeno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oose household factor endow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LRAS’ LAW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rkets; a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values of excess demand in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–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e equal to zer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the excess demand in th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 will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 zer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means that our twenty equations are not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independent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only have 19 equations, with 20 unknow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LRAS’ LAW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have to fix the value of one further variab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ing Walras, we choose one price as a numerai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 “unit of account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bitrary which one – we choose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later CP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model then can solve for relative pric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RANSLATING FOR GAM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ed to economize on names of variab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to use notational conven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P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PPER CASE = ENDOGENOUS VARI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wer case = exogenous variable/parame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 variables so you can ‘read’ th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 starts quantities, A activities, Y inco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20:36:22Z</dcterms:created>
  <dc:creator>Matthew</dc:creator>
  <dc:description/>
  <dc:language>en-US</dc:language>
  <cp:lastModifiedBy>Dirk New</cp:lastModifiedBy>
  <dcterms:modified xsi:type="dcterms:W3CDTF">2007-03-18T11:28:24Z</dcterms:modified>
  <cp:revision>19</cp:revision>
  <dc:subject/>
  <dc:title>A SIMPLE NEOCLASSICAL MODEL</dc:title>
</cp:coreProperties>
</file>